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F27-5F7D-4D93-BD76-36E541F8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9F0-4364-4A50-BD18-683F11BB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4AE-D9F8-4CA2-8521-E9BA27EC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22C-8F6F-4188-A212-2FB44063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A58E-1360-4E27-A4B8-55D4BC96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113B-FE62-4A9E-9A51-F98460A5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B7DE-7461-402D-957F-4EB83F7F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3842-E77B-42E8-A87F-3D25229D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7321-D5C8-432B-9043-5E8B651B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C24D-9D51-47AC-9ABE-43FCB91F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BF9B-C1E5-483A-9164-6218144A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C2D-6407-460A-8857-A4BE6BFA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2DD0-1BB2-4271-B9B9-EAC4491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637A-CEC2-4CC9-91EA-808B0E8F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464F-FBD7-4C35-969B-0BFA22C5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ED2E-DCB4-4453-8757-E00BBBBC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AD18-9BC7-4C84-BEC8-7A43A8F9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DCA-02BA-48FC-8635-1DFD2D57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83D-9FA2-4B49-B5F0-C9AF7BFB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52C-511F-43D2-8CC4-3EC30391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3FB-70B7-4C16-8380-F9045EBE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EB0-5EEB-4C47-AC5F-F8E203FC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AE6-B897-40E1-B735-22405C6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85C-C469-4E71-A48B-5DCB1A0D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4AA3-EEBA-4E04-9EFA-0B8047BAB41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B95-452F-45C7-AD57-45B2C64AB98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ark-learn.com/english/page.asp?p=categories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8.gif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ncorporating Learning Styles Theory in ISW less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904760" y="4190760"/>
            <a:ext cx="69339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W Facilitator’s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e 13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: Marjorie Contenti, SAIT Polytech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One way of introducing learning style inventory in the IS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2362320"/>
            <a:ext cx="7772400" cy="39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W facilitators have the participants do the follow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small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group chooses or is assigned one of the learning styles in the VA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group designs an activity that learners with that style would like and an activity they would not li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the activities to the large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eflection on using learning styles in the IS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251424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ly, or in pairs or groups from your institution, think about how you might incorporate a learning style inventory in your IS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step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ost Assessment and Summa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d you accomplish these objecti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value of introducing a learning styles inventory to ISW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one or more methods of introducing learning styles in the IS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ss the VARK learning preference inven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gend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2147400"/>
            <a:ext cx="77724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-In to learning styles: value of knowing about learning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s of this work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-assessment of audience knowledge of learning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group activ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ssessment and summ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alue of knowing more about learning styles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portunity to reflect on, and explore, our own p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portunity to develop a respect for the learning preferences of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portunity to s-t-r-e-t-c-h our own styles and add more tools to our learning and our teaching tool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mmon vocabulary (which helps us understand concep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Objectives of this worksho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 result of this session, participants will be able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value of introducing a learning styles inventory to ISW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one or more methods of introducing learning styles in the IS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ss the VARK learning preference inven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earning styles are the way we process inform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259056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is the process by which we retain knowledge and skil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earning Style is the way we process information and experiences and then turn them into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, think of it as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earning styles are vari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different approaches to the way we learn.  Note: these are preferences, not streng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tools to measure learning sty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lb, Gregorc, VARK, Multiple Intelligences, DISC, Kiersey, Meyers-Briggs, and over 100 inventories of learning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have you used in your IS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Identify methods of introducing learning styles in the ISW</a:t>
            </a:r>
            <a:br>
              <a:rPr sz="4000"/>
            </a:b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2590560"/>
            <a:ext cx="7772400" cy="37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the learning styles inventories that are being taught in IS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mall groups based on interest, discuss methods that have been used to introduce learning styles in IS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methods to the larg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esired, exchange contact information for follow-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cc6600"/>
                </a:solidFill>
                <a:latin typeface="Times New Roman"/>
              </a:rPr>
              <a:t>A Learning style inventory: Kolb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57200" y="1981080"/>
          <a:ext cx="8381880" cy="4621320"/>
        </p:xfrm>
        <a:graphic>
          <a:graphicData uri="http://schemas.openxmlformats.org/drawingml/2006/table">
            <a:tbl>
              <a:tblPr/>
              <a:tblGrid>
                <a:gridCol w="4349880"/>
                <a:gridCol w="4032000"/>
              </a:tblGrid>
              <a:tr h="23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ommoda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igating the real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covery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ks with little 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invol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sk ta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on oriented group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ying different sol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erg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f-expression and crea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operative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thering information in novel w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-minded list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gining impl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e0e3"/>
                    </a:solidFill>
                  </a:tcPr>
                </a:tc>
              </a:tr>
              <a:tr h="23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g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uctured assignments with clear dir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s-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fic and clear cut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ilding physical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osing the best sol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der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ing experi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mila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as, conce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derly and log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c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ilding conceptual mod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lyzing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CA" sz="4400" spc="-1" strike="noStrike">
                <a:solidFill>
                  <a:srgbClr val="cc6600"/>
                </a:solidFill>
                <a:latin typeface="Times New Roman"/>
              </a:rPr>
              <a:t>Learning style: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ARK modalities </a:t>
            </a:r>
            <a:r>
              <a:rPr b="0" i="1" lang="en-US" sz="18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http://www.vark-learn.com/english/page.asp?p=categories</a:t>
            </a:r>
            <a:r>
              <a:rPr b="0" i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3200"/>
            </a:b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ral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/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sth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5" descr="C:\Documents and Settings\mcontent\Local Settings\Temporary Internet Files\Content.IE5\1P77QWUL\MCj04377970000[1].wmf"/>
          <p:cNvPicPr/>
          <p:nvPr/>
        </p:nvPicPr>
        <p:blipFill>
          <a:blip r:embed="rId11"/>
          <a:stretch/>
        </p:blipFill>
        <p:spPr>
          <a:xfrm>
            <a:off x="2057400" y="2438280"/>
            <a:ext cx="1752480" cy="157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:\Documents and Settings\mcontent\Local Settings\Temporary Internet Files\Content.IE5\1P77QWUL\MCj01871590000[1].wmf"/>
          <p:cNvPicPr/>
          <p:nvPr/>
        </p:nvPicPr>
        <p:blipFill>
          <a:blip r:embed="rId12"/>
          <a:stretch/>
        </p:blipFill>
        <p:spPr>
          <a:xfrm>
            <a:off x="2057400" y="4724280"/>
            <a:ext cx="1843200" cy="1511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C:\Documents and Settings\mcontent\Local Settings\Temporary Internet Files\Content.IE5\3TFSDJBC\MMAG00218_0000[1].gif"/>
          <p:cNvPicPr/>
          <p:nvPr/>
        </p:nvPicPr>
        <p:blipFill>
          <a:blip r:embed="rId13"/>
          <a:stretch/>
        </p:blipFill>
        <p:spPr>
          <a:xfrm>
            <a:off x="6172200" y="2590920"/>
            <a:ext cx="1981080" cy="1352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C:\Documents and Settings\mcontent\Local Settings\Temporary Internet Files\Content.IE5\3TFSDJBC\MCj04399430000[1].wmf"/>
          <p:cNvPicPr/>
          <p:nvPr/>
        </p:nvPicPr>
        <p:blipFill>
          <a:blip r:embed="rId14"/>
          <a:stretch/>
        </p:blipFill>
        <p:spPr>
          <a:xfrm>
            <a:off x="6629400" y="4572000"/>
            <a:ext cx="13906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4:51:37Z</dcterms:created>
  <dc:creator>SAIT</dc:creator>
  <dc:description/>
  <dc:language>en-US</dc:language>
  <cp:lastModifiedBy>mcontent</cp:lastModifiedBy>
  <dcterms:modified xsi:type="dcterms:W3CDTF">2009-06-12T16:04:38Z</dcterms:modified>
  <cp:revision>24</cp:revision>
  <dc:subject/>
  <dc:title>Diverse Learning Approaches</dc:title>
</cp:coreProperties>
</file>